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6B3-49E6-4059-8235-2581600B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E9C-90B6-4E8D-BBFB-63C514AE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863-50D3-4E96-B55B-AED3B818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139-DBEF-4C48-9C57-C35596F1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D01A-935D-4CAA-82D0-9430869A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5FFE-5EF3-43DD-B412-5A8EE77F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6F2E-3EB1-4A09-8895-CD995A5C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8B80-490E-4BF6-AB7B-7B739F10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21C9-2A8B-4450-B18B-8BD37028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B841-7E8D-424F-A591-A5D2A16F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36EE-F657-4949-83B8-7D03036C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2DB-15CF-4057-AE6B-22BE9584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9BD9-36C7-4BCB-9ECE-609B0187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1FE0-889A-4B12-9E16-118B07D3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3BDC-4CC1-4565-AD00-BE6F6E97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880D-D5F2-41AF-BDE1-F9CBD5A9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C866-5D07-4F43-86E8-0FFE69BA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7A1-2E97-49BE-BF2B-E290110E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F59-1431-4F27-BD57-EEC451AD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CC2-CF3C-488B-A5E7-4EE11B87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392-71C1-4D05-B712-032C3C11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2353-3B70-4FA3-9249-816F1C46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357-97E6-4256-88C0-4B3FA3BC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E76-4D25-42EA-9C53-85110204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4361-6BE0-4720-A29D-AEE39A33E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7550-F89B-44B5-B665-E01E4579AD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swagattours.com/rajasthan-overview/gifs/people-rajasthan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5 THEMES OF GEOGRAPHY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 1 SECTION 1 NO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HE FIVE THEMES OF GEOGRAPHY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Loc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Pla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Human-Environment Interac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ovemen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Region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OCATION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Where are we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bsolute Lo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titude and longitude (global location) or a street address (local location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04080" indent="-21456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aris France is 48</a:t>
            </a:r>
            <a:r>
              <a:rPr b="0" lang="en-US" sz="1800" spc="-1" strike="noStrike" baseline="40000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rth Latitude and 2</a:t>
            </a:r>
            <a:r>
              <a:rPr b="0" lang="en-US" sz="1800" spc="-1" strike="noStrike" baseline="40000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ast Longitud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504080" indent="-21456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White House is located at 1600 Pennsylvania Ave.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ative Lo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scribed by landmarks, time, direction or distance. From one place to anoth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o 1 mile west on main street and turn left for 1 block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www.bedandbreakfast.com/inns/lennox-south-dakota-inns.gif"/>
          <p:cNvPicPr/>
          <p:nvPr/>
        </p:nvPicPr>
        <p:blipFill>
          <a:blip r:embed="rId1"/>
          <a:stretch/>
        </p:blipFill>
        <p:spPr>
          <a:xfrm>
            <a:off x="4114800" y="5334120"/>
            <a:ext cx="311004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Down Arrow 6"/>
          <p:cNvSpPr/>
          <p:nvPr/>
        </p:nvSpPr>
        <p:spPr>
          <a:xfrm rot="20904600">
            <a:off x="4851000" y="4610160"/>
            <a:ext cx="1276560" cy="139068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ou are Her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LA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3468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it like there, what kind of place is it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uman Characteristi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What are the main languages, customs, and belief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ow many people live, work, and visit a plac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hysical Characteristi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ndforms (mountains, rivers, etc.), climate, vegetation, wildlife, soil, etc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http://www.visitusa.com/idaho/images/snake-river.jpg"/>
          <p:cNvPicPr/>
          <p:nvPr/>
        </p:nvPicPr>
        <p:blipFill>
          <a:blip r:embed="rId1"/>
          <a:stretch/>
        </p:blipFill>
        <p:spPr>
          <a:xfrm>
            <a:off x="5257800" y="4267080"/>
            <a:ext cx="1765440" cy="1324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http://tbn0.google.com/images?q=tbn:ZA9ZcJ6dWIz77M:http://www.swagattours.com/rajasthan-overview/gifs/people-rajastha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533412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http://imagecache2.allposters.com/images/pic/NGSPOD08/119497~A-Muslim-at-Prayer-Posters.jpg"/>
          <p:cNvPicPr/>
          <p:nvPr/>
        </p:nvPicPr>
        <p:blipFill>
          <a:blip r:embed="rId4"/>
          <a:stretch/>
        </p:blipFill>
        <p:spPr>
          <a:xfrm>
            <a:off x="1981080" y="4952880"/>
            <a:ext cx="1316160" cy="1752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http://newsimg.bbc.co.uk/media/images/39403000/jpg/_39403287_aastreetap203.jpg"/>
          <p:cNvPicPr/>
          <p:nvPr/>
        </p:nvPicPr>
        <p:blipFill>
          <a:blip r:embed="rId5"/>
          <a:stretch/>
        </p:blipFill>
        <p:spPr>
          <a:xfrm>
            <a:off x="3505320" y="5181480"/>
            <a:ext cx="1628640" cy="1219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http://www.mass.gov/envir/forest/images/multiLayerForest.jpg"/>
          <p:cNvPicPr/>
          <p:nvPr/>
        </p:nvPicPr>
        <p:blipFill>
          <a:blip r:embed="rId6"/>
          <a:stretch/>
        </p:blipFill>
        <p:spPr>
          <a:xfrm>
            <a:off x="7086600" y="533412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HUMAN-ENVIRONMENT INTERACT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ow do humans and the environment affect each other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e depend on i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eople depend on the Mississippi River for water and transporta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e modify i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eople modify our environment by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eating and cooling buildings for comfor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e adapt to it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We adapt to the environment by wearing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lothing suitable for summer (shorts) and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winter (coats), rain and shin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5" descr="http://z.about.com/d/sewing/1/0/i/F/face3.jpg"/>
          <p:cNvPicPr/>
          <p:nvPr/>
        </p:nvPicPr>
        <p:blipFill>
          <a:blip r:embed="rId1"/>
          <a:stretch/>
        </p:blipFill>
        <p:spPr>
          <a:xfrm>
            <a:off x="380880" y="5181480"/>
            <a:ext cx="927360" cy="1676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http://www.china-manufacturer-directory.com/picture/halogen-heater-hh-301.jpg"/>
          <p:cNvPicPr/>
          <p:nvPr/>
        </p:nvPicPr>
        <p:blipFill>
          <a:blip r:embed="rId2"/>
          <a:stretch/>
        </p:blipFill>
        <p:spPr>
          <a:xfrm>
            <a:off x="6400800" y="35053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http://www.well.com/user/pk/waterfront/Ferry/AC-ferry.jpg"/>
          <p:cNvPicPr/>
          <p:nvPr/>
        </p:nvPicPr>
        <p:blipFill>
          <a:blip r:embed="rId3"/>
          <a:stretch/>
        </p:blipFill>
        <p:spPr>
          <a:xfrm>
            <a:off x="5410080" y="2133720"/>
            <a:ext cx="2438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OVEMEN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are people, goods, ideas moved from place to pl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man Mov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ucks, Trains, Pla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formation Mov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ell phones (texting), computer (email), mai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a Mov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 do fads/styles move from place to place?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V, Internet, Magaz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dio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www.railwayshop.com/highball/powder10.jpg"/>
          <p:cNvPicPr/>
          <p:nvPr/>
        </p:nvPicPr>
        <p:blipFill>
          <a:blip r:embed="rId1"/>
          <a:stretch/>
        </p:blipFill>
        <p:spPr>
          <a:xfrm>
            <a:off x="4495680" y="2209680"/>
            <a:ext cx="2168640" cy="1447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http://pinker.wjh.harvard.edu/photos/cambridge_boston/images/plane%20taking%20off.jpg"/>
          <p:cNvPicPr/>
          <p:nvPr/>
        </p:nvPicPr>
        <p:blipFill>
          <a:blip r:embed="rId2"/>
          <a:stretch/>
        </p:blipFill>
        <p:spPr>
          <a:xfrm>
            <a:off x="6858000" y="23623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http://www.2nd-chance-encounter.com/files/3PeopleAtLaptop.jpg"/>
          <p:cNvPicPr/>
          <p:nvPr/>
        </p:nvPicPr>
        <p:blipFill>
          <a:blip r:embed="rId3"/>
          <a:stretch/>
        </p:blipFill>
        <p:spPr>
          <a:xfrm>
            <a:off x="7010280" y="3809880"/>
            <a:ext cx="1841760" cy="1220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http://boingboing.net/Images/democracyfails.jpg"/>
          <p:cNvPicPr/>
          <p:nvPr/>
        </p:nvPicPr>
        <p:blipFill>
          <a:blip r:embed="rId4"/>
          <a:stretch/>
        </p:blipFill>
        <p:spPr>
          <a:xfrm>
            <a:off x="5105520" y="5486400"/>
            <a:ext cx="1231920" cy="1184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http://o.aolcdn.com/goldrush/blog/peoplecvrP57swholiday.jpg"/>
          <p:cNvPicPr/>
          <p:nvPr/>
        </p:nvPicPr>
        <p:blipFill>
          <a:blip r:embed="rId5"/>
          <a:stretch/>
        </p:blipFill>
        <p:spPr>
          <a:xfrm>
            <a:off x="7315200" y="5105520"/>
            <a:ext cx="1220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77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77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GION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ow are Regions similar to and different from other plac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ormal Reg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gions defined by governmental or administrative boundaries (States, Countries, Citie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gions defined by similar characteristics (Corn Belt, Rocky Mountain region, Chinatown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unctional Reg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gions defined by a function (newspaper service area, cell phone coverage are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membering the 5 the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76440" y="1819440"/>
            <a:ext cx="7791120" cy="40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f you can’t remember what they are, just ask MR. HELP!!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Mo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Reg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Human Environment inter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Lo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-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Your 5 Themes of Geography Biograph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CA’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cribe you, your family, and where you live (your environment) using the 5 Themes of Geograph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sure you use every the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 specific examples on how the 5 themes apply to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YOU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lif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9:13:25Z</dcterms:created>
  <dc:creator>dscott</dc:creator>
  <dc:description/>
  <dc:language>en-US</dc:language>
  <cp:lastModifiedBy>masciarellis</cp:lastModifiedBy>
  <dcterms:modified xsi:type="dcterms:W3CDTF">2010-10-06T17:44:35Z</dcterms:modified>
  <cp:revision>55</cp:revision>
  <dc:subject/>
  <dc:title>5 Themes of Geography</dc:title>
</cp:coreProperties>
</file>